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B14-8ED7-4FFA-941E-2E2E4A18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84D-4032-4FA6-9B35-63A715D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00A-A34F-48AF-9D04-47C621B0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1DC-3A6C-4A1E-A185-4A15DC29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460-CB13-443A-81CB-2814526F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067-1A77-4694-992C-B3DC5F2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6FC2-20AA-4054-9C58-8A7E4CE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C70D-0772-4AC8-BEB6-C6FD16EE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E645-193C-4676-BA6E-9C66D86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8DE-7DCA-4C13-BFB8-E98E6476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2FB-90F6-4EBB-8911-8993BD2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8D3-99DC-465B-9007-6CDF246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CB5-4229-46E9-A174-BC73AD4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A4F5-72B8-452C-9AC5-EAA394EF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157-E65F-46DE-9733-41962A81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DA8-DC7B-4C56-A462-B85EDE15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1BB-AC8C-4843-9908-152608A3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A1C-7F86-45AE-AE40-754DEA6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805-FABC-4883-9CEB-01F2E65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66A-3392-4AFA-9A87-B9DA8B11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CF0-B7B7-43D5-9294-43642C7A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E4A-0532-43D1-AFB0-FC310235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94D-8991-4AF4-B972-BAD9592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190-4D46-4959-97D3-945D0B1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676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AWG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200</a:t>
            </a: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5/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98D-6ED1-4397-B236-0204D8417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927920" y="5745240"/>
            <a:ext cx="83520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B2FB-4300-45A9-9FD4-4249295C9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3352680" cy="1602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04040" y="163440"/>
            <a:ext cx="1382760" cy="158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657600"/>
            <a:ext cx="2819160" cy="6094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92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12720" y="400536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0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418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1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744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8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420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6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S1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 start scre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936720"/>
            <a:ext cx="7740720" cy="5921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observations softw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7524720" cy="5772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lers over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22320"/>
            <a:ext cx="7740720" cy="5935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B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7: 2 proto HBA tiles to Westerb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or engineering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-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0 Mbps output (80% of go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sation issues between racks notified (workaround: reset of the boa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91636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eek pulsar 0329+54 tracked @ 16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eek (8 Dec.) 16 ustations incl. delay t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terday pulsar 1919+21 tracked @ 200 MHz for 2 hour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1 hour an error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terday evening 16 ustations incl. delay tr. + station monitoring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lts Delay Tracking + Fringe Stopp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ubband stored (60 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frequency: 16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dipoles per u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u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tracking: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tracking + fringe stopping: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12192120" cy="9753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973080" y="-1251000"/>
            <a:ext cx="12458520" cy="9968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900000" y="-1179360"/>
            <a:ext cx="12168000" cy="9734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900000" y="-1467000"/>
            <a:ext cx="12385440" cy="9375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delay tracking + fringe stopping ex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because time server @ central systems was not 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 for 1 input node was drifted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band statistics of all dipoles were mea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ndre Gunst</dc:creator>
  <dc:description/>
  <dc:language>en-US</dc:language>
  <cp:lastModifiedBy>Andre Gunst</cp:lastModifiedBy>
  <cp:lastPrinted>1999-11-09T09:34:59Z</cp:lastPrinted>
  <dcterms:modified xsi:type="dcterms:W3CDTF">2006-12-13T12:35:34Z</dcterms:modified>
  <cp:revision>220</cp:revision>
  <dc:subject/>
  <dc:title>LOFAR Introduction</dc:title>
</cp:coreProperties>
</file>